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whoosh.wav" ContentType="audio/x-wav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5529-B8EA-4F6F-9BDD-6D31C2D5F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A54B-A749-4204-8164-3AF9E6A0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47AB-D30E-4C55-8117-0743718D0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4D2D-5590-42B4-8A51-775ADCF75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9D36-DEF0-411B-B23F-91374C92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DFBC-C8B3-4D85-80CD-CFB4DB55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34C5-3907-4E63-989B-429D1A45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9E3D-0188-4A28-9380-D8894C1D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E045-9E53-496E-A8E2-3DC1B626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0FCD-460A-4FB9-B545-963D2530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BC05-49A9-4B46-9E1C-4E8276EF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8DB4-220D-4781-B442-36D382E0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2DC8-DF20-456E-9DBD-1EFCF8C42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asurement-A Common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333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C:\Documents and Settings\Owner\My Documents\My Pictures\school\Metric System.bmp"/>
          <p:cNvPicPr/>
          <p:nvPr/>
        </p:nvPicPr>
        <p:blipFill>
          <a:blip r:embed="rId1"/>
          <a:stretch/>
        </p:blipFill>
        <p:spPr>
          <a:xfrm>
            <a:off x="2971800" y="2133720"/>
            <a:ext cx="30942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igure 4: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Observing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the proper way to read a meniscus?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297144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d the milliliter marking at the bottom  of the cu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2301840" y="203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5" descr="http://www.morrisonlabs.com/images/volumexamples/528meniscus.jpg"/>
          <p:cNvPicPr/>
          <p:nvPr/>
        </p:nvPicPr>
        <p:blipFill>
          <a:blip r:embed="rId1"/>
          <a:stretch/>
        </p:blipFill>
        <p:spPr>
          <a:xfrm>
            <a:off x="4267080" y="302904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80"/>
                </a:solidFill>
                <a:latin typeface="Comic Sans MS"/>
                <a:ea typeface="Times New Roman"/>
              </a:rPr>
              <a:t>Volum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  <a:ea typeface="Times New Roman"/>
              </a:rPr>
              <a:t>Volume of Rectangular Solid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523880" y="1371600"/>
          <a:ext cx="6096240" cy="40892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022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mon Conversions For Volu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000 cm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523880" y="1371600"/>
          <a:ext cx="6096240" cy="40892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022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mon Conversions For Volu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,000 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000 cm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523880" y="1371600"/>
          <a:ext cx="6096240" cy="40892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022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mon Conversions For Volu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,000 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000 cm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523880" y="1371600"/>
          <a:ext cx="6096240" cy="40892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022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mon Conversions For Volu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,000 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000 cm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 cm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can the volume of a solid object such as a shoebox be measured?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measure a solid objects that are regular shaped, a formula for volume can be appl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measure a rectangular object such as a shoebox, multiply the object</a:t>
            </a: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 length, width, and h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SI unit known for measuring solids with a larger volume is known as the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ubic meter (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³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formula for calculating the volume of a rectangular object is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olume = Length x Width x H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y is the unit cm³ used when calculating the volume of a rectangular object?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multiplying the object</a:t>
            </a: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 length, width and height, the cm units are also multipl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m x cm x cm = c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80"/>
                </a:solidFill>
                <a:latin typeface="Comic Sans MS"/>
                <a:ea typeface="Times New Roman"/>
              </a:rPr>
              <a:t>Volum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ppose a cereal box is 10 centimeters long, 4 centimeters wide, and 20 centimeters high.  What would be the volume of the box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olume = Length x Width x H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olume = 10 cm x 4 cm x 20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olume = 800 c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eading Checkpoint (page 51)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a cubic meter?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3124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I unit used to measure solids with a larger 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ubic meter is equal to the volume of a cube that measures 1 meter on each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80"/>
                </a:solidFill>
                <a:latin typeface="Comic Sans MS"/>
                <a:ea typeface="Times New Roman"/>
              </a:rPr>
              <a:t>Volum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4920" y="388620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omic Sans MS"/>
                <a:ea typeface="Times New Roman"/>
              </a:rPr>
              <a:t>Volume of Irregular Soli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is the volume of an irregular solid such as a rock measured?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measure the volume of an irregular solid, immerse the object in water, and measure how much the water level r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ter displacement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es the water displacement method work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cord the volume of water in the graduated cyl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efully place the irregular solid into the water.  Record the volume of the water plus the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 the volume of the water alone from the volume of the water plus the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olu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amount of space an object takes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80"/>
                </a:solidFill>
                <a:latin typeface="Comic Sans MS"/>
                <a:ea typeface="Times New Roman"/>
              </a:rPr>
              <a:t>Volum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omic Sans MS"/>
                <a:ea typeface="Times New Roman"/>
              </a:rPr>
              <a:t>Volume of Liquid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en measuring the volume of a liquid, scientists use a unit known as the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ter (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 measure the volume of smaller liquids, the _________ is used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lliliter (m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instrument used to measure the volume of liquids is called the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27432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duated cylin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1" descr="http://www.dartmouth.edu/~chemlab/techniques/graphics/flasks/flasks3.gif"/>
          <p:cNvPicPr/>
          <p:nvPr/>
        </p:nvPicPr>
        <p:blipFill>
          <a:blip r:embed="rId1"/>
          <a:stretch/>
        </p:blipFill>
        <p:spPr>
          <a:xfrm>
            <a:off x="5257800" y="2514600"/>
            <a:ext cx="2589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s instrument has markings that are in increments of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 milliliter (m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7" descr="http://dl.clackamas.cc.or.us/ch104-02/images/104vol04.jpg"/>
          <p:cNvPicPr/>
          <p:nvPr/>
        </p:nvPicPr>
        <p:blipFill>
          <a:blip r:embed="rId1"/>
          <a:stretch/>
        </p:blipFill>
        <p:spPr>
          <a:xfrm>
            <a:off x="4800600" y="2286000"/>
            <a:ext cx="3494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niscu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curve in the top surface of water in the graduated cyli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12:23:35Z</dcterms:created>
  <dc:creator>conantt</dc:creator>
  <dc:description/>
  <dc:language>en-US</dc:language>
  <cp:lastModifiedBy>St. Aloysius</cp:lastModifiedBy>
  <dcterms:modified xsi:type="dcterms:W3CDTF">2012-09-20T14:39:46Z</dcterms:modified>
  <cp:revision>12</cp:revision>
  <dc:subject/>
  <dc:title>Measurement-A Common Language</dc:title>
</cp:coreProperties>
</file>